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7640" y="1197000"/>
            <a:ext cx="6553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8560" y="2349360"/>
            <a:ext cx="87850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ВОД У ФАРМАЦЕУТСКУ ТЕХНОЛОГИ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: До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вера дозирања галенских и магистралних препарата за спољашњу и унутрашњу употреб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вера</a:t>
            </a: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 концентрације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 раств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0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Acidi boric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1,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piriti dilut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0,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i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u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Споља по потре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800000"/>
                </a:solidFill>
                <a:latin typeface="Arial"/>
              </a:rPr>
              <a:t>Acidum boricum</a:t>
            </a:r>
            <a:r>
              <a:rPr b="1" lang="sr-CS" sz="2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i="1" lang="sr-CS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h</a:t>
            </a:r>
            <a:r>
              <a:rPr b="1" lang="sr-CS" sz="2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Jug</a:t>
            </a:r>
            <a:r>
              <a:rPr b="1" lang="sr-CS" sz="2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IV</a:t>
            </a:r>
            <a:r>
              <a:rPr b="1" lang="sr-CS" sz="2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растворима је дозвољена средња концентрација 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51,5 гр. препарата : 1,5 гр. борне кис.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100: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= 2,91 грама тј. 2,91%  &lt; 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редња концентрација није прекора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вера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концентрације за прашкасте супстанце и раствор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 кр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,2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i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2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ff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4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gdalae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2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ol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el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15,00</a:t>
            </a:r>
            <a:br>
              <a:rPr sz="3200"/>
            </a:b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rem</a:t>
            </a:r>
            <a:br>
              <a:rPr sz="3200"/>
            </a:b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 сп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брати количине свих супстанци: 1,0+ 1,25 + 2,0 + 4,0 + 2,0 + 15,0 + 15,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епарату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лази се 1,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цинк – окси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 у 1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парата би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40,25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CS" sz="2800" spc="-1" strike="noStrike" baseline="-25000">
                <a:solidFill>
                  <a:srgbClr val="009900"/>
                </a:solidFill>
                <a:latin typeface="Arial"/>
              </a:rPr>
              <a:t>препарата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: 1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ZnO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= 100 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g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: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X g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ZnO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200" spc="-1" strike="noStrike">
                <a:solidFill>
                  <a:srgbClr val="800000"/>
                </a:solidFill>
                <a:latin typeface="Arial"/>
              </a:rPr>
              <a:t> = 2,48 </a:t>
            </a:r>
            <a:r>
              <a:rPr b="1" lang="sr-Latn-CS" sz="22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200" spc="-1" strike="noStrike">
                <a:solidFill>
                  <a:srgbClr val="800000"/>
                </a:solidFill>
                <a:latin typeface="Arial"/>
              </a:rPr>
              <a:t> цинк - оксида (2,48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гистралне формуле прописују дозвољену употребу до 40% цинк-оксида у препаратима за спољашњу употребу, па како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2,48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&lt; 40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концентрација није прекора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% раствор борне киселине – потребно две пропор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порција показује колико чисте борне киселине има у датој колични раствора т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рне киселине растворено у 100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вор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рама раств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раствор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: 3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борне кис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раствор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борне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ки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00 *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= 0,06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исте борне кисели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порција показује колико те чисте борне киселине има у укупуној количини препар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40,25 </a:t>
            </a:r>
            <a:r>
              <a:rPr b="1" lang="sr-Latn-CS" sz="2400" spc="-1" strike="noStrike" baseline="-25000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 baseline="-25000">
                <a:solidFill>
                  <a:srgbClr val="009900"/>
                </a:solidFill>
                <a:latin typeface="Arial"/>
              </a:rPr>
              <a:t> препарата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: 0,06 </a:t>
            </a:r>
            <a:r>
              <a:rPr b="1" lang="sr-Latn-CS" sz="2400" spc="-1" strike="noStrike" baseline="-25000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 baseline="-25000">
                <a:solidFill>
                  <a:srgbClr val="009900"/>
                </a:solidFill>
                <a:latin typeface="Arial"/>
              </a:rPr>
              <a:t> борне кис.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= 100 </a:t>
            </a:r>
            <a:r>
              <a:rPr b="1" lang="sr-Latn-CS" sz="2400" spc="-1" strike="noStrike" baseline="-25000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 baseline="-25000">
                <a:solidFill>
                  <a:srgbClr val="009900"/>
                </a:solidFill>
                <a:latin typeface="Arial"/>
              </a:rPr>
              <a:t> препарата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sr-Latn-CS" sz="2400" spc="-1" strike="noStrike" baseline="-25000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400" spc="-1" strike="noStrike" baseline="-25000">
                <a:solidFill>
                  <a:srgbClr val="0000ff"/>
                </a:solidFill>
                <a:latin typeface="Arial"/>
              </a:rPr>
              <a:t> борне кис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 = 0,1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800000"/>
                </a:solidFill>
                <a:latin typeface="Arial"/>
              </a:rPr>
              <a:t>Acidum boricum (Ph.</a:t>
            </a:r>
            <a:r>
              <a:rPr b="1" lang="sr-CS" sz="22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200" spc="-1" strike="noStrike">
                <a:solidFill>
                  <a:srgbClr val="800000"/>
                </a:solidFill>
                <a:latin typeface="Arial"/>
              </a:rPr>
              <a:t>ug. IV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ња конц.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прашковим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и маст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арат је крем ЗБОГ ЧЕГ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0,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% &lt; 10 %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концентрација бо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иселине у овом препарату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108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вера дозирања препарата за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унутрашњу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проверу дозирања препарата за унутрашњу употребу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репер је може бити једна од практичних мера за узимање леков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- да се омогући контрола максималних доза лековитих супстанци, које ће болесник узети као појединачну или дневну д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ктичне мере су уобичајене за дозирање лекова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течном стању или у облику праш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актичне мере за дозир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кафена кашич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рам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или 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супена каш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рам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или 1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х нож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– до 1,5 грам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све ређе у употреб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РОВЕРА ДОЗИРАЊА ПРЕПАРАТА ЗА УНУТРАШЊУ УПОТ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nesii carbonic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trii hydrocarboni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lcii carbonat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ctos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d 1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.f. pu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.S.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1 кашичицу дне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MgC0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0,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0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ашка има 6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бо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РЕПЕР ЈЕ ЈЕДНА КАШИЧ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једној дози која ј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биће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рама магнезијум карбо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0: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5 :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0,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 MgC03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&lt;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0,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с.п.д. за 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MgC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доз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</a:t>
            </a:r>
            <a:r>
              <a:rPr b="1" lang="sr-Latn-CS" sz="2800" spc="-1" strike="noStrike" u="sng">
                <a:solidFill>
                  <a:srgbClr val="800000"/>
                </a:solidFill>
                <a:uFillTx/>
                <a:latin typeface="Arial"/>
              </a:rPr>
              <a:t>NaHC0</a:t>
            </a:r>
            <a:r>
              <a:rPr b="1" lang="sr-Latn-CS" sz="2800" spc="-1" strike="noStrike" u="sng" baseline="-25000">
                <a:solidFill>
                  <a:srgbClr val="800000"/>
                </a:solidFill>
                <a:uFillTx/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и видимо да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шка имам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NaHC0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0: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5 :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0,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&lt; 1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тј. доза није прекора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</a:t>
            </a:r>
            <a:r>
              <a:rPr b="1" lang="sr-Latn-CS" sz="2800" spc="-1" strike="noStrike" u="sng">
                <a:solidFill>
                  <a:srgbClr val="800000"/>
                </a:solidFill>
                <a:uFillTx/>
                <a:latin typeface="Arial"/>
              </a:rPr>
              <a:t>CaC0</a:t>
            </a:r>
            <a:r>
              <a:rPr b="1" lang="sr-Latn-CS" sz="2800" spc="-1" strike="noStrike" u="sng" baseline="-25000">
                <a:solidFill>
                  <a:srgbClr val="800000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и видимо да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шка имам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CaC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0: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5 :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0,3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&lt; 2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тј. доза није прекорач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67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ОВЕРА ДОЗИРАЊА ОРАЛНОГ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lfadiazini                 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lfadimethoxini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2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rupi simplici     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50,00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uspensio</a:t>
            </a:r>
            <a:br>
              <a:rPr sz="2000"/>
            </a:b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кашик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ulfadiazi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п.д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1 гр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д = 2 гр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дд = 7 гра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50 : 5 = 1</a:t>
            </a:r>
            <a:r>
              <a:rPr b="1" lang="sr-Latn-CS" sz="2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5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РЕПЕР ЈЕ ЈЕДНА КАШИ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= 1</a:t>
            </a: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,5g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 -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корачен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С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.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= 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,5g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&lt; 2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 -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1,5 = 4,5 &lt; 7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д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lfadiazini               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,00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          Sulfadimethoxini      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2,00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rupi simplici     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50,00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uspensio</a:t>
            </a:r>
            <a:br>
              <a:rPr sz="2400"/>
            </a:b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каш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ulfadimethoxinum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ug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5г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д = 1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дд = 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50 :2 = 15 : x</a:t>
            </a:r>
            <a:r>
              <a:rPr b="1" lang="sr-C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9900"/>
                </a:solidFill>
                <a:latin typeface="Arial"/>
              </a:rPr>
              <a:t>x= 0,6 </a:t>
            </a:r>
            <a:r>
              <a:rPr b="1" lang="sr-Latn-CS" sz="20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x= 0,6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0,5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је С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x= 0,6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&lt; 1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0,6 = 1,8 &lt; 3 </a:t>
            </a: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РОВЕРА ДОЗИРАЊА ПРЕПАРАТА ЗА СПОЉАШЊУ УПОТРЕБУ - ИНТЕРНАЦИОНАЛНЕ Ј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tracini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50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mycin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s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n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d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5,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ci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,00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lvis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2-3 пута посути на кожу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истрално прописан неподељен прашак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за спољашњу упот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</a:t>
            </a: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концентрације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за бацитрац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h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g IV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9900cc"/>
                </a:solidFill>
                <a:latin typeface="Arial"/>
              </a:rPr>
              <a:t>средња конц. =  500 </a:t>
            </a:r>
            <a:r>
              <a:rPr b="1" lang="sr-Latn-CS" sz="2200" spc="-1" strike="noStrike">
                <a:solidFill>
                  <a:srgbClr val="9900cc"/>
                </a:solidFill>
                <a:latin typeface="Arial"/>
              </a:rPr>
              <a:t>IJ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 на 1грам вехикул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РЕПЕР ЈЕ 1 ГРА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9900"/>
                </a:solidFill>
                <a:latin typeface="Arial"/>
              </a:rPr>
              <a:t>20 грама  : </a:t>
            </a: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5000 IJ</a:t>
            </a:r>
            <a:r>
              <a:rPr b="1" lang="sr-CS" sz="40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sr-Latn-C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грам</a:t>
            </a:r>
            <a:r>
              <a:rPr b="1" lang="sr-C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sr-C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1" lang="sr-CS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x =</a:t>
            </a:r>
            <a:r>
              <a:rPr b="1" i="1" lang="sr-Latn-C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250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 IJ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&lt;  500 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редња концентрација није прекора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68544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товог лека се дефиниш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ликом регистрације л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генц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ле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 лековите супстанце за галенску израду се најчешће налаз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Фармакопе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ли другој стручној лит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редњ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појединач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доз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терапијс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јвећ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појединач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и днев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доз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максималне) наведене у монографијама, изражене су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рамима или интернационалним јединиц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е наведене у монографији су дозе за нормално развијеног одраслог човека, за ентералну и паренте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ада се парентералне дозе разликују од ентералних, наводе се засебно (на пр. инјекције, супозиторије и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10160" y="0"/>
            <a:ext cx="15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800000"/>
                </a:solidFill>
                <a:latin typeface="Times New Roman"/>
              </a:rPr>
              <a:t>ДО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РОВЕРА ДОЗИРАЊА -ИНТЕРНАЦИОНАЛНЕ Ј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itracini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50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yci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s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nc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d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5,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ci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,00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ulvi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2-3 пута посути на кожу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овера </a:t>
            </a: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концентрације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 за неомицин – сулфа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Ph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g IV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дња конц. =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20 грама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0,1 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= 100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 грама</a:t>
            </a: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 :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 =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0,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5 %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, концентрација није прекора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Bacitracini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500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omycin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lfas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nc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d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5,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ci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,00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lvis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. 2-3 пута посути на кожу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концентрације за цинк – окси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h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g IV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inci oxyd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h.Jug. IV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а конц. = 10 % и Магистралне формуле 2008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Г 2008) 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20 грама : 5 =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100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грама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: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  =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25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%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&lt;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Средња концентрациј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личина бацитрацина се одмерава тако што у монографији за бацитрацин у фармакопеји постоји податак да се 52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лазе у 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ПАЖЊ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52 : 1 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5000 : 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x =</a:t>
            </a:r>
            <a:r>
              <a:rPr b="1" i="1" lang="sr-Latn-C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96,15 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mg =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0,0961 г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Код лекова који се дозирају на капи користимо следеће приближне мер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691920"/>
            <a:ext cx="87901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 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чног лековитoг препаратa има следeћи број кап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ода и обични водени раст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 20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сно уљ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30-40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кохолно водени раствори, течни екстракти,тинктуре, етарска уља.....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окo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40-50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исти а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хол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50-60   кап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ре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навање у капи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а поједине супстанц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се може наћи у :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h Jug II, таблицa XX , str.888-890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Магистралне формуле 2008, стр.3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ВЕРА ДОЗИРАЊА МАГИСТРАЛНИХ И ГАЛЕНСИХ ПРЕПАРАТА ЗА ДЕЦ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ИЗ ПОГЛАВЉА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РАЂУЈЕ СЕ У 8. НЕДЕЉ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321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6108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апијск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is medicinalis ili dosis therapeutica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тимална количина лека која се даје пациј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редња појединач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с.п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јвећа појединач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н.п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јвећа днев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н.д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 ПРОВЕРИ ДОЗИРАЊА ГАЛЕНСКОГ ИЛИ МАГИСТРАЛНОГ РЕЦЕП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НЕ СМЕЈУ БИТИ ПРЕКОРАЧ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Н.П.Д.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Н.Д.Д.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759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До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аксимална доза је највећа количина лековитог препарата која се одраслом човеку сме издати за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једнократну или дневну употребу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Н.П.Д. и Н.Д.Д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Максималне доз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АЖ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за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блике који с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примењују </a:t>
            </a:r>
            <a:r>
              <a:rPr b="1" lang="sr-Latn-CS" sz="2200" spc="-1" strike="noStrike">
                <a:solidFill>
                  <a:srgbClr val="009900"/>
                </a:solidFill>
                <a:latin typeface="Arial"/>
              </a:rPr>
              <a:t>перорално и парентeралано</a:t>
            </a:r>
            <a:r>
              <a:rPr b="1" lang="sr-CS" sz="2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Максималне дозе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тј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највеће појединачне и дневне дозе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ВАЖ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лековите препарате који се </a:t>
            </a:r>
            <a:r>
              <a:rPr b="1" i="1" lang="sr-Latn-CS" sz="2200" spc="-1" strike="noStrike">
                <a:solidFill>
                  <a:srgbClr val="800000"/>
                </a:solidFill>
                <a:latin typeface="Arial"/>
              </a:rPr>
              <a:t>примењују за испирање очију, уста, носа, ректума и урогениталних органа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1" i="1" lang="sr-CS" sz="2200" spc="-1" strike="noStrike">
                <a:solidFill>
                  <a:srgbClr val="0000ff"/>
                </a:solidFill>
                <a:latin typeface="Arial"/>
              </a:rPr>
              <a:t>спољашња употреба</a:t>
            </a:r>
            <a:r>
              <a:rPr b="1" i="1" lang="sr-C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фармацеутске облике са </a:t>
            </a:r>
            <a:r>
              <a:rPr b="1" i="1" lang="sr-CS" sz="2200" spc="-1" strike="noStrike">
                <a:solidFill>
                  <a:srgbClr val="0000ff"/>
                </a:solidFill>
                <a:latin typeface="Arial"/>
              </a:rPr>
              <a:t>продуженим деловањ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4608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Д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за за </a:t>
            </a:r>
            <a:r>
              <a:rPr b="1" lang="sr-CS" sz="3200" spc="-1" strike="noStrike" u="sng">
                <a:solidFill>
                  <a:srgbClr val="009900"/>
                </a:solidFill>
                <a:uFillTx/>
                <a:latin typeface="Arial"/>
              </a:rPr>
              <a:t>спољашњ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имену на кожу и слузокожу наведена је као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9900"/>
                </a:solidFill>
                <a:uFillTx/>
                <a:latin typeface="Arial"/>
              </a:rPr>
              <a:t>средња концентрација</a:t>
            </a:r>
            <a:r>
              <a:rPr b="1" lang="sr-CS" sz="36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проценат (%) препарата у вехикулуму, неразблажено и сл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Фрамакопеји је наведена у загради и најчешћа употреба препарата са одређеном концентрациј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-243000"/>
            <a:ext cx="6408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вером максималних доза штити се болесник да не дође до кобних забуна при писању и изради гален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је у терапији потребно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екораче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максималне дозе, лекар мора на то упозорити фармацеута на прописан нач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исписује количину и словима, пише (!) и ставља свој потп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Morphini chloridi 0,03 (cenigramata tres)!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ис ле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Провера дозирања или концентрације у препарату- ОПШТИ ПРИНЦ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 : Б = Ц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276360" y="285228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4076640"/>
            <a:ext cx="93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19280" y="386064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96000" y="285228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941720"/>
            <a:ext cx="3600720" cy="1154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ПЕР!!!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341360"/>
            <a:ext cx="388764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СУПСТА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ПРЕПАР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341360"/>
            <a:ext cx="3888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СУПСТА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ЈЕ ДОЗИРАЊЕ ПРОВЕРАВА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581360"/>
            <a:ext cx="410364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КУПНА КОЛИЧИНА ПРЕПА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вера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озирања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 препарату за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спољашњ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вера дозирања у препарату за спољашњу употребу подразумева проверу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КОНЦЕНТРАЦИЈ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650"/>
              </a:spcBef>
              <a:buClr>
                <a:srgbClr val="800000"/>
              </a:buClr>
              <a:buSzPct val="1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рачунати колика је концентрација сваке активне компоненте у препарату –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репер је онда 100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375"/>
              </a:spcBef>
              <a:buClr>
                <a:srgbClr val="800000"/>
              </a:buClr>
              <a:buSzPct val="1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поредити са податком из фармакопеје која показује колика је концентрација за ту супстанцу дозвољ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375"/>
              </a:spcBef>
              <a:buClr>
                <a:srgbClr val="800000"/>
              </a:buClr>
              <a:buSzPct val="1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кон тога треба показати да ли је концентрација сваке активне компоненте у препарату у опсегу дозовољене или 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375"/>
              </a:spcBef>
              <a:buClr>
                <a:srgbClr val="800000"/>
              </a:buClr>
              <a:buSzPct val="1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олико је у опсегу дозвољене може се приступити изради пре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375"/>
              </a:spcBef>
              <a:buClr>
                <a:srgbClr val="800000"/>
              </a:buClr>
              <a:buSzPct val="1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олико је прекорачена врши се корекција тј. фармацеут смањује количине активне супстанце у препарату што потвршује својим потпи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7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вера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концентрац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прашку за 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  Acidi borici  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6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esthesini     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2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inci oxy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8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lci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,00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ulvis</a:t>
            </a:r>
            <a:br>
              <a:rPr sz="2000"/>
            </a:b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споља за посип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Acidum boric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конц. = 10 % у прашк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0 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 : 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 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борне кис. =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100 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: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тј. 3%&lt; 10 %, концентарциј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Anesthesin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 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конц. =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20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 : 2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 g 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анестезина =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100 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: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 10 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тј. 10%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10%, концентрациј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Zinci oxyd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Jug. I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а конц. = 10 % и Магистралне формуле 2008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Г 2008)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20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 : 8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цинк-оксида = 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100 g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препарата</a:t>
            </a:r>
            <a:r>
              <a:rPr b="1" lang="sr-Latn-CS" sz="2400" spc="-1" strike="noStrike">
                <a:solidFill>
                  <a:srgbClr val="009900"/>
                </a:solidFill>
                <a:latin typeface="Arial"/>
              </a:rPr>
              <a:t> :</a:t>
            </a: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40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тј. 40% = 40%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онцентрација није прекораче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nezana</cp:lastModifiedBy>
  <dcterms:modified xsi:type="dcterms:W3CDTF">2021-02-15T13:42:02Z</dcterms:modified>
  <cp:revision>48</cp:revision>
  <dc:subject/>
  <dc:title>Slide 1</dc:title>
</cp:coreProperties>
</file>